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0D7-4EDF-491F-B5A2-E7B9F04C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3D5-876A-4F9A-B64C-7F2AC2EB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41A74-86BA-4A13-A6CD-3E021C05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BC293-010B-4C78-9C2B-D1CD92CE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DE828-56F2-44AE-9139-05A2D1C6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C8DF9-0E2F-46C3-9823-70E11580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115A8-7D7F-4E39-B477-67EDA474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7C670-4F59-4D91-983E-0B581D1A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E47E5-037C-412E-9627-A9A37F87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C10BE-765D-4A88-B781-E76894E0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6E0FF-2D9A-4E81-AD90-82B3C69B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4574C-7874-405A-A0A5-FAC60D3E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76C-F48B-4276-9BC6-77FDCE1A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963A2-E779-495B-8C95-42029D80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3241C-8D55-4F40-8E04-02DCD55A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47A92-B09E-4DE5-B399-A5E00F28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F6AFE-B32D-4E7B-9C4F-6DDD7726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B1213-AF9C-43B4-B455-FE23B971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FD664-005C-40B4-9B61-0F8503CB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1FD5E9-3585-4B42-B5F8-24A7C4BC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8DEDB-6CEA-4918-AD54-94CC808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EE08D-1D38-457C-B4F3-8E4C0AE5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66ECD-2D8F-4826-9F17-22435F4B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DEC-C4A6-4E51-B1C2-0CBA5F34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FCC43-08D9-4CC6-9872-73B3636B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38010B-B528-4260-B589-F6A03852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A0F345-45B8-471F-B7A4-E5A288AF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9137FC-A127-4B5F-BD4F-05F19E4D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DFEB89-0F27-4D05-B6E1-1735A4DF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34AE17-F2BC-4E2C-8F88-2D114FB7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AA38CD-C096-4656-9AB3-F96C51D1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C5038D-0B81-42EB-9AAC-4C215961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04CB06-6890-486D-B5B6-66538C5B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529EF2-9339-4CDF-9783-A5D9BA2B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55ADD9-36B4-4D0B-B7F4-64C094D2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5B3B96-84F6-4A19-85DE-D374CDDE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144D9B-11E8-4D83-81F3-D98C6A13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B1EE9-0FE9-4505-9505-FD08C008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2EBE5-A73C-4FD0-8DCB-C1E6A6A0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7F580-B0A1-4439-A003-E02DF520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1354E-A8B6-4520-BD96-B95F39DB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26F2D-B59D-45C3-9F2C-14DE0BDF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45CC5-EDE1-46EF-9EFC-F53EB393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6C901-023E-41D1-9CF0-0E31D72A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A00E3-D3BF-426F-8AAC-7D878AEA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0EBCD-E31C-4D91-9613-D150190A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BF9C3-32CA-4CD9-86E4-F8FC5667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FCB54-97AF-4E96-903A-C1EA01C4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4FA6C-5CDD-473D-A10B-3E5EB9CF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89C64E-0704-40A1-AF50-9D02D738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8838DA-A5B1-4C2B-97CB-CCD952D8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2C9849-66C2-4F88-BDCA-23B8BA3B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2FEABD-6852-4059-8438-6DED4BAC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A8A64A-97D1-4D02-AE36-4FF4B5C4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D94849-B3F4-46B7-B88E-A8066C32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281C63-D6E8-4816-9D02-F296D9EB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F34B71-EF21-4819-83A6-6D184889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471984-15E4-446F-BADA-3A0788A0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E88B94-FE8C-4715-A790-26154BCD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52356E-CA39-4CD1-9C8E-392575F2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BDDB87-2E83-46EB-96BF-84AEC5AF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BF580-3E95-4268-B790-6FFBAB57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FD8F0-8C73-4977-8385-36CA5164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81641-B80D-4ABA-A5AC-DA98F843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E6A46-2BB1-4F3B-87B4-F57E7603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0A5CC-2C35-48EF-9517-28F8B279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5043B-45AD-4504-AC29-00B7EE19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62F7C-8B9F-46BD-BEB6-45A70640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BA953-DE77-4464-AF42-4C02F9A3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2887E-CAEA-414F-A1B1-7A929347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F96A9-F947-4673-A725-35177DCF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20282-F5AB-45C3-9E70-1E65F4EC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74ADE-D9E6-4DA6-9CB1-21E1A54A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141EE8-D331-4428-B4BD-928A0FB9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74FCB-B895-41BF-A872-F09DDF54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B143C-4B23-4B1B-8349-AA9531D1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86AC2-4E75-40DB-9187-F6664EE8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3D97C-F971-4F3B-B2AB-A2FA6990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4B77A-95A8-4EEB-9E3A-309B391C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DD3339-AD9A-4507-A237-BB52B933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9AF69-326E-4012-8806-A58A68B9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A97F4-78AF-44BD-8099-1D99F0FF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F5EE3-45C6-4A21-80F5-8CB9FD1B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C1854-DF58-4AE4-BAA0-FC32DB52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AAE26-B232-499C-8F3E-BD381FCD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1935E-86FD-46EF-B88C-B2F0E41D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0AC88-3C20-4AEF-A7D5-086C1A6E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04C282-9F62-44DD-A40B-9B2ADFEE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7AEE43-BC59-4109-B9D6-8107FC07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BFF30A-AD45-48AB-8068-C2E14BAA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B03F7-7A61-487C-9835-857A0F7F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7DB1D3-DF79-4E96-B02C-9F2E8879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628-A582-4899-AB39-10B9AEC0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4D21C4-B37F-4D89-A9BD-08587214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FAD12-D8BD-4E5A-995B-7440671D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C30256-D38F-48F5-A6E5-08725C54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AAE72-43B6-445E-832F-54FC0553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6EED9B-F562-471A-975F-142DBCF6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9A4E1-E11A-4464-BDCC-5F89AF7E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13E9F-1618-42E5-A93C-672B98DE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E7C2EE-1044-449F-87D9-A9817A00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9D50E-238D-4BFE-9E33-7B6DF9D8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C3EC8D-93B7-4E87-B053-2F23FE26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2F6DF-6CD8-4398-BB71-23EFCE41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6F87D-DEAC-4D36-8224-77865500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C057C6-28A6-4196-88B4-8174F242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76DA2-F077-4F2D-97E4-15EA7407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65E7F-6550-4043-BFB6-658DD197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374F89-7892-4CFC-AB8E-6674E0BD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B911D8-B9A8-4C93-BFEF-36138006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B7DF6-7944-4073-843E-AF9C44EB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C2B35-3818-45B2-8E11-B4D9F9E2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D1F3C-1F3A-4144-BC81-BCB55CC8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C24C7D-380F-46D8-A4D4-F33D9954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EBCE44-B601-45B2-94E5-B89F038A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30B9F-62B9-4FF8-8DBC-01C09005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3E6536-3332-44E0-9BDB-3E4E052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2468F9-EF75-45C2-9AE6-2C1A7ED7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332B88-F018-417A-B2AD-C352700D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EA8106-BB94-4FB7-80CA-F1F0BA30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65FCC-A62D-4E70-B8DB-8198181F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61D66-92CD-4416-91B1-CBDB5E84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2AEBDD-6061-4415-A658-89F8C417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1C6814-43C5-435B-A7AB-7C19971C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94307A-4018-41C7-A76D-CF38698F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3814A-E900-4492-899F-818C0C1C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153D3-12CC-49C8-9C7E-9882B797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34A5C-F5E2-4566-8530-91D291AF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3029E5-A0FD-4B77-90F9-D7611DD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86A9A0-7AA0-4786-B678-54C27108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2085EC-917F-4ACB-B3AB-CDBD4189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B7B9B3-74FE-435E-B7E7-D99BA94A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B3CEE-79A2-44B1-9637-1FAE3384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F5968-1C70-49FC-9F4D-57B49114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9B2EA-AAAD-424B-A6AA-142400F1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166AB-0AA0-4CD7-93F3-7DD3B064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1D0F1-7631-4001-A236-4D7181A0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176DC-781D-4B3A-B277-C9B1362A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34039D-07DD-4534-9919-F9EF078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559ECB-34E5-483C-B755-64610CEC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4F265E-BA11-494A-9771-24948D38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878DF4-3248-4B0C-8FED-8657F127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EB3D8D-4E08-4866-A7AF-7D9FDAC0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EA31D-F1D4-4D8E-AA21-8D55EAB7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2A8CA5-2774-4FBE-9A58-EDB9C2E6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6F2AA-ACAA-40E6-A820-63A2FE7F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EE6F43-F1DF-429A-8DF3-3C77D47F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5C1B0-384B-445D-9BD7-31733C89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E9AD5-B8F8-4767-BDF8-B90D4CCC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2FAED-59CC-466F-A7B4-DAEF01ED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8E75C-F2A6-4875-90A3-E0B3C027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BBC-D49F-442E-B990-48CCE29A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31BC1-6C52-4208-94FB-B4763622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18975-F27B-4483-89BF-3E3166E9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8684C-2BD9-4EF5-B026-6A790803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FF071-90AB-48C7-95CB-6A3B5645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BC843-BB42-4ADF-807E-FA42231C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F68AC-2B30-40A1-AEF1-917E3710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69AE7-843A-45E4-8326-F3209D84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AB92C-9AC3-43FB-877E-87531542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B3133-365F-48CA-AD07-F20F5398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8B501A-CDF6-42A9-B8F8-8585FF3C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786-AC32-4D8D-9C35-E6DA9541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84E687-C85B-46C3-8BFF-E10F0BFC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26F4E-3BA8-4533-8E6D-2747D553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6FD54-58D7-4BE2-90CB-32D66983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E77E1-F740-41A5-900C-37170326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B38807-4806-4D29-A3BC-282884F6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C7C83-ED13-48D5-99A9-42D61B2C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3A1DD-345F-4943-99A2-F1D4DB21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71760-8574-4E2A-A61D-4ED842AD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B2D6C-EA82-4401-824A-51325197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121-9B68-492B-9C14-648149FF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886-A24C-4A58-B146-A487B44A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B859F1-7678-4F15-BE02-B8CAEED1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58BC72-5418-421A-9201-FEDFF81C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7FE865-D57D-49DC-97E5-4DD70226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98BA2B-3276-4BF7-8D15-B038974C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8386F9-475F-4F75-824F-688B9946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B960AC-6284-4F3E-9CD0-160A826D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C82E58-A249-4EE3-A3DB-05B2C16F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77287B-57F5-41A9-B16F-B9E30175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E771C5-F4CE-4739-AEA5-2CC28DC8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3E7-AF47-4FF8-9AF8-79BA53CB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F20048-BAF5-4F85-98BE-830111AC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5CF75B-D147-462B-BCF3-E623D7CF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A2A1D2-EB01-4A6E-9191-73EA99AC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4A4ACF-8925-4BAE-BB0F-3E5AEB47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F3144B-60F4-4C2A-99FB-09964870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591542-9F3D-4B61-9624-3FF334F2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187E9F-E013-4F16-9B76-2DCAB72A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AE2323-6C59-4076-9D35-5C60EFD4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752255-E84F-4528-8105-E0FD09CC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DDCE5E-4F5C-41BE-AA2C-142E7E4F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0E9-7399-440C-9A8A-567021CA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B0A5FE-BC8D-4544-B49D-7C35F690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8E3449-9DB2-408F-A8B8-F11F51C2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CF4747-48AD-4327-AD77-9663DA54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E42D83-0999-4111-861E-0C29A24B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84E35B-9595-40E7-893C-8D1EA4BA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C32434-552B-49BC-A4FF-3357EDBB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B4C63A-C67C-4180-9B2A-31EAB44E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E1432E-DEFA-48C1-B4FD-342F1960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E9B70B-A9EF-49C6-BDDE-6FCDF660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2E7B71-E360-4F05-8848-AE230D4F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CFC-9B73-4FB5-A591-898D3E2E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EF2F1D-3373-4899-8EDC-D4B48D9E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C359D5-90BA-4036-83BF-B704453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3EC49D-EBB4-4309-8E12-FDB0ECA0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B36F29-6D62-4CBF-B6B5-50AFEAF7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B528C8-E3AB-4703-9D91-6D480FB0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EE3F36-1054-468A-A999-B538556B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0F7BF4-7A00-4020-88EE-C1B32912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848B5-BCDD-405C-8BFF-69CB820C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3333A-C3D3-4FD3-813E-F627CF0E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3CB55-553E-4DBE-899A-298BA6BE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10DDC-450E-4D82-9ECC-CB3B718C2E89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34243-97AB-44B9-81C9-36F9D1774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F8A78-05AF-41C7-B991-C3C506BAF6F1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F5803-CBB7-440F-8E39-10A91C4EB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20B63-F55F-4775-A972-DF21AF957089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57D21-F04B-4962-A2C8-99A4D168F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C8EAF-A4CD-48CC-B654-ACDB71BF3958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D4B09-BE3E-4A50-A595-B8A5C6719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DF78A-9DCF-4EC3-83DC-27AC7EA55B5D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2455D-F01A-4705-8455-70DC0F463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ADA62-4562-475A-8412-AD31F2764492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D110C-8ADD-425C-8920-953C1FBA918B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CCA49-D462-40AD-BD1B-1166B7AEA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30BDD-B243-4670-A937-FFAFA64A47D5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8AD9E-4DC7-4DC3-B7EE-8B80B705A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1F215-7B0C-42FC-B2BD-DA1F6C6030AD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129A9-EDD3-4E87-9091-63AD349B8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17142-4987-43C2-9EED-017A5039F99D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9D259-8A93-4199-B7C5-D553DD424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752D5-6E24-4703-A5C1-0EF8210BB378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50201-2865-4429-B1A5-B2BAC4F4B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D7E3F-F582-498B-BFAC-9F86504D2D49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51BB7-C63B-4A6E-A3AC-D0F26FEEE711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0EF43-3300-4055-82C7-AA1BE7A8C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120FC-8033-4D19-9474-B870D2C4C999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5F5A9-7DDA-40FD-ADF8-330539C39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74741-8992-44BD-A844-06FDD3D5BAA3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65603-84D5-49BC-BD8F-70770DC06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15441-71FC-48F3-B46F-DE8467C2E1DD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E6D0B-9405-42D4-8A88-89374416BF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C4AC2-EBA8-4F19-8D69-61B893A6F7A8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8CE8C-C7BE-498C-BD8B-1A4F9EC1A6DC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AF45E-DD15-4B46-9FFB-B059B316C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BFD6F-0B94-47BE-8D93-6B0338E03A5B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BAE90-B7F1-43B6-8502-24D8ECD30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FEB99-E055-4020-9983-C5A5E86E9EC2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D86CF-FC0F-4884-85E5-7003E33CE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BE820-0122-42DD-AFBC-935761DC8B3D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197DD-A9CA-4EE9-8CA4-BCDED1711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nville.k12.pa.u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Using the DMS Library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Presented by LibraryRunner (aka Mrs. Brame)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12" name="Picture 4" descr="meezAnimatedBodyshot300x400.gif"/>
          <p:cNvPicPr/>
          <p:nvPr/>
        </p:nvPicPr>
        <p:blipFill>
          <a:blip r:embed="rId1"/>
          <a:stretch/>
        </p:blipFill>
        <p:spPr>
          <a:xfrm>
            <a:off x="1143000" y="477720"/>
            <a:ext cx="261288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 Virtual Welcome!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                        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Hello and thank you for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              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tting me visit you virtually today!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oday we will discuss: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ibrary Expectation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Advisory Visit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e New DMS Library Websit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15" name="Picture 3" descr="meezHeadshot100x100.jpg"/>
          <p:cNvPicPr/>
          <p:nvPr/>
        </p:nvPicPr>
        <p:blipFill>
          <a:blip r:embed="rId1"/>
          <a:stretch/>
        </p:blipFill>
        <p:spPr>
          <a:xfrm>
            <a:off x="5553000" y="174312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ibrary Expectation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e same expectations throughout the school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 Kind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 Respectful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 Responsibl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 Saf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do these look like in the library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Advisory Visit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ame expectations as last year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isten to morning announcement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Have a signed agenda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gn into the librar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ork quietly, respecting others in the librar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gn out when leaving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he New DMS Library Websit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s year, the DMS Library Website has a new, sassy look!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o get to the DMS Library Website, follow these step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Danville Area School District Webpag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c5fbc"/>
                </a:solidFill>
                <a:uFillTx/>
                <a:latin typeface="Rockwell"/>
                <a:hlinkClick r:id="rId1"/>
              </a:rPr>
              <a:t>www.danville.k12.pa.u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Under Schools, select Danville Middle School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Once on the Danville Middle School Webpage, select DMS Library in the menu on the left side of the page. 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t’s take a look!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pic>
        <p:nvPicPr>
          <p:cNvPr id="922" name="Picture 3" descr="meezHeadshot100x100.jpg"/>
          <p:cNvPicPr/>
          <p:nvPr/>
        </p:nvPicPr>
        <p:blipFill>
          <a:blip r:embed="rId2"/>
          <a:stretch/>
        </p:blipFill>
        <p:spPr>
          <a:xfrm>
            <a:off x="6546960" y="462132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23:57:38Z</dcterms:created>
  <dc:creator>PA Department of Education Classrooms for the Future</dc:creator>
  <dc:description/>
  <cp:keywords/>
  <dc:language>en-US</dc:language>
  <cp:lastModifiedBy>PA Department of Education Classrooms for the Future</cp:lastModifiedBy>
  <dcterms:modified xsi:type="dcterms:W3CDTF">2009-09-10T00:32:04Z</dcterms:modified>
  <cp:revision>3</cp:revision>
  <dc:subject/>
  <dc:title>PowerPoint Presentation  -  Using the DMS Library</dc:title>
</cp:coreProperties>
</file>